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6800" y="694800"/>
            <a:ext cx="5140440" cy="3426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7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3000"/>
              </a:lnSpc>
              <a:buNone/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msmincho"/>
              </a:defRPr>
            </a:lvl1pPr>
          </a:lstStyle>
          <a:p>
            <a:pPr indent="0" algn="r">
              <a:lnSpc>
                <a:spcPct val="83000"/>
              </a:lnSpc>
              <a:buNone/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71A51-0DEC-4212-A1FF-5C5C42B4EF01}" type="slidenum">
              <a:rPr b="0" lang="ja-JP" sz="1200" spc="-1" strike="noStrike">
                <a:solidFill>
                  <a:srgbClr val="000000"/>
                </a:solidFill>
                <a:latin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3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0081B-421E-4464-804E-D57DE70D2624}" type="slidenum">
              <a:rPr b="0" lang="ja-JP" sz="1200" spc="-1" strike="noStrike">
                <a:solidFill>
                  <a:srgbClr val="000000"/>
                </a:solidFill>
                <a:latin typeface="msmincho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7160" y="695160"/>
            <a:ext cx="514044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スライド番号プレースホルダー 3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3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19522-2841-4DFF-9D75-48DAF709BAF0}" type="slidenum">
              <a:rPr b="0" lang="ja-JP" sz="1200" spc="-1" strike="noStrike">
                <a:solidFill>
                  <a:srgbClr val="000000"/>
                </a:solidFill>
                <a:latin typeface="msmincho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376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022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56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376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022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A3B8-BBDE-4F15-8D1B-374386F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E2A6-55C1-4D4C-AA37-151BEA0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9048-2913-4330-B14D-2D042DB7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FBCF-C29C-439B-B15C-543CF0B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0C7A-6E72-41BA-9C4C-701A862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85640" y="431280"/>
            <a:ext cx="874872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285C-1E11-4DA2-9D13-1060D7A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BCED-843F-41F6-9ECB-6A907B9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3E0A-3937-4872-99E2-C05D3D00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CF77-F473-43EA-AEE9-5141CB7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97BD-6C6E-4135-8E8F-123D123E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0B4D-2659-4476-AD04-DA8A4303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4376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022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6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4376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022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4C56-1B9C-4BA4-BFBB-DDE1A499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BFC-D3A8-4613-A47F-4518D564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2D2-06DD-4A39-B164-41D531C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6D3C-6A92-49D9-AF5D-225EC0D1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184-02EA-484E-9E33-0434731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965-ACCC-4342-BEC9-97167A2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85640" y="431280"/>
            <a:ext cx="874872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015-B2AE-4EB7-9C49-0E332B7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471-1415-4E44-941B-9C38645A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444-8323-411E-ACFE-85B87D0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AC8-AB05-467D-B29D-A19EB0A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153D-1F0E-4744-8C58-98AA15B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F9E-DAE0-41E9-A05B-490DE9C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4376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022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56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4376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4022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403E-410F-447C-AF70-A179D37F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5640" y="431280"/>
            <a:ext cx="874872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90600" y="162252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94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1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2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3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4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5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6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73160" cy="787320"/>
          </a:xfrm>
          <a:custGeom>
            <a:avLst/>
            <a:gdLst>
              <a:gd name="textAreaLeft" fmla="*/ 360 w 173160"/>
              <a:gd name="textAreaRight" fmla="*/ 172800 w 17316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8051">
                <a:moveTo>
                  <a:pt x="196" y="0"/>
                </a:moveTo>
                <a:arcTo wR="196" hR="196" stAng="16200000" swAng="-5400000"/>
                <a:lnTo>
                  <a:pt x="0" y="97855"/>
                </a:lnTo>
                <a:arcTo wR="196" hR="196" stAng="10800000" swAng="-5400000"/>
                <a:lnTo>
                  <a:pt x="21404" y="98051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041560"/>
            <a:ext cx="173160" cy="787320"/>
          </a:xfrm>
          <a:custGeom>
            <a:avLst/>
            <a:gdLst>
              <a:gd name="textAreaLeft" fmla="*/ 360 w 173160"/>
              <a:gd name="textAreaRight" fmla="*/ 172800 w 17316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8051">
                <a:moveTo>
                  <a:pt x="196" y="0"/>
                </a:moveTo>
                <a:arcTo wR="196" hR="196" stAng="16200000" swAng="-5400000"/>
                <a:lnTo>
                  <a:pt x="0" y="97855"/>
                </a:lnTo>
                <a:arcTo wR="196" hR="196" stAng="10800000" swAng="-5400000"/>
                <a:lnTo>
                  <a:pt x="21404" y="98051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01880"/>
            <a:ext cx="173160" cy="787320"/>
          </a:xfrm>
          <a:custGeom>
            <a:avLst/>
            <a:gdLst>
              <a:gd name="textAreaLeft" fmla="*/ 360 w 173160"/>
              <a:gd name="textAreaRight" fmla="*/ 172800 w 17316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8051">
                <a:moveTo>
                  <a:pt x="196" y="0"/>
                </a:moveTo>
                <a:arcTo wR="196" hR="196" stAng="16200000" swAng="-5400000"/>
                <a:lnTo>
                  <a:pt x="0" y="97855"/>
                </a:lnTo>
                <a:arcTo wR="196" hR="196" stAng="10800000" swAng="-5400000"/>
                <a:lnTo>
                  <a:pt x="21404" y="98051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65640" y="590364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95DAC3-5C78-4278-9FAB-389CF0687E4A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0" y="0"/>
            <a:ext cx="9720000" cy="515880"/>
            <a:chOff x="0" y="0"/>
            <a:chExt cx="9720000" cy="515880"/>
          </a:xfrm>
        </p:grpSpPr>
        <p:sp>
          <p:nvSpPr>
            <p:cNvPr id="45" name="Rectangle 5"/>
            <p:cNvSpPr/>
            <p:nvPr/>
          </p:nvSpPr>
          <p:spPr>
            <a:xfrm>
              <a:off x="0" y="0"/>
              <a:ext cx="303840" cy="503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38840" y="127440"/>
              <a:ext cx="9281160" cy="2606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435240" y="127440"/>
              <a:ext cx="14652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81760" y="0"/>
              <a:ext cx="146880" cy="130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581760" y="127440"/>
              <a:ext cx="14688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291960" y="259200"/>
              <a:ext cx="14472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140040" y="128880"/>
              <a:ext cx="149760" cy="130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435240" y="256320"/>
              <a:ext cx="146520" cy="130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91960" y="387000"/>
              <a:ext cx="144720" cy="128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3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720000" cy="6480000"/>
            <a:chOff x="0" y="0"/>
            <a:chExt cx="9720000" cy="6480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3726000" cy="6480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1824120" y="1597320"/>
              <a:ext cx="7895880" cy="2394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grpSp>
          <p:nvGrpSpPr>
            <p:cNvPr id="96" name="Group 5"/>
            <p:cNvGrpSpPr/>
            <p:nvPr/>
          </p:nvGrpSpPr>
          <p:grpSpPr>
            <a:xfrm>
              <a:off x="0" y="1007640"/>
              <a:ext cx="3047040" cy="2982960"/>
              <a:chOff x="0" y="1007640"/>
              <a:chExt cx="3047040" cy="2982960"/>
            </a:xfrm>
          </p:grpSpPr>
          <p:sp>
            <p:nvSpPr>
              <p:cNvPr id="97" name="Rectangle 6"/>
              <p:cNvSpPr/>
              <p:nvPr/>
            </p:nvSpPr>
            <p:spPr>
              <a:xfrm>
                <a:off x="609120" y="3384360"/>
                <a:ext cx="612360" cy="606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1823760" y="1597320"/>
                <a:ext cx="610560" cy="607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2424600" y="1007640"/>
                <a:ext cx="622440" cy="600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1213200" y="3384360"/>
                <a:ext cx="622440" cy="606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1" name="Rectangle 10"/>
              <p:cNvSpPr/>
              <p:nvPr/>
            </p:nvSpPr>
            <p:spPr>
              <a:xfrm>
                <a:off x="2424600" y="1597320"/>
                <a:ext cx="622440" cy="607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1213200" y="2196000"/>
                <a:ext cx="622440" cy="598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3" name="Rectangle 12"/>
              <p:cNvSpPr/>
              <p:nvPr/>
            </p:nvSpPr>
            <p:spPr>
              <a:xfrm>
                <a:off x="0" y="2196000"/>
                <a:ext cx="618840" cy="598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4" name="Rectangle 13"/>
              <p:cNvSpPr/>
              <p:nvPr/>
            </p:nvSpPr>
            <p:spPr>
              <a:xfrm>
                <a:off x="1823760" y="2196000"/>
                <a:ext cx="610560" cy="598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5" name="Rectangle 14"/>
              <p:cNvSpPr/>
              <p:nvPr/>
            </p:nvSpPr>
            <p:spPr>
              <a:xfrm>
                <a:off x="609120" y="2784240"/>
                <a:ext cx="612360" cy="609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  <p:sp>
            <p:nvSpPr>
              <p:cNvPr id="106" name="Rectangle 15"/>
              <p:cNvSpPr/>
              <p:nvPr/>
            </p:nvSpPr>
            <p:spPr>
              <a:xfrm>
                <a:off x="1213200" y="2784240"/>
                <a:ext cx="622440" cy="609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HG-MinchoL-Su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85640" y="590364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965640" y="590364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876E61-E47B-4535-94F1-B7E12656AC59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68360" y="860400"/>
            <a:ext cx="896472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 the International Regime for Space Traffic Management</a:t>
            </a:r>
            <a:endParaRPr b="0" lang="en-US" sz="44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What to Fix the Current International Regulations-</a:t>
            </a:r>
            <a:endParaRPr b="0" lang="en-US" sz="44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00280" y="3456000"/>
            <a:ext cx="8300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>
            <a:normAutofit/>
          </a:bodyPr>
          <a:p>
            <a:pPr marL="216000" indent="-216000"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u Takeuchi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7" name="テキスト ボックス 1"/>
          <p:cNvSpPr/>
          <p:nvPr/>
        </p:nvSpPr>
        <p:spPr>
          <a:xfrm>
            <a:off x="34920" y="5556240"/>
            <a:ext cx="979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-MinchoL-Sun"/>
              </a:rPr>
              <a:t>*The view expressed herein are entirely those of the author in his personal capacity and do not reflect those of JAXA or Japanese government by any means.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cial points : Demarcation between an operational space object and a non-operational space object;  Procedure for relinquish the rights over non-operational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ing non-operational (uncontrollable) objects is given a higher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M regime should ensure that the relinquishing of jurisdiction and control by the State should be extremely confined in certa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E7D67-3A0F-4412-9247-2A38BF061EA4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7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How to Remove Space Debris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recognize suborbital spacecraft as “potential space traffic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tourism is a hybrid type of air and space activities which should be regulated in both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, of course, more desirable to establish a new category rather than to forcibly regulate through a set of existing regulations. But the current political circumstances do not allow a new establishment of legal reg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 type activity should be regulated by both air and spac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5F8DDE-C0DD-4169-9828-2701D8837D0C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0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Regulating Suborbital Spaceflight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50F9FA-2421-41A4-83CF-316A6D63E3C2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3851280" y="1295280"/>
            <a:ext cx="1871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lackadder ITC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300720" y="3240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AXA</a:t>
            </a:r>
            <a:endParaRPr b="0" lang="en-US" sz="1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4" name="テキスト ボックス 1"/>
          <p:cNvSpPr/>
          <p:nvPr/>
        </p:nvSpPr>
        <p:spPr>
          <a:xfrm>
            <a:off x="1611360" y="410364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-MinchoL-Sun"/>
              </a:rPr>
              <a:t>Please send questions to Takeuchi.yu@jaxa.jp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2640" y="86364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Realizing International STM Regim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Issues on Current International Spac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902F65-9B7B-4B71-8109-B5C0D47683A9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0" name="正方形/長方形 1"/>
          <p:cNvSpPr/>
          <p:nvPr/>
        </p:nvSpPr>
        <p:spPr>
          <a:xfrm>
            <a:off x="3960000" y="4888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1" name="正方形/長方形 3"/>
          <p:cNvSpPr/>
          <p:nvPr/>
        </p:nvSpPr>
        <p:spPr>
          <a:xfrm>
            <a:off x="1116000" y="244800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-MinchoL-Sun"/>
              </a:rPr>
              <a:t>(1) Applicable in Outer Space or Air Spac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-MinchoL-Sun"/>
              </a:rPr>
              <a:t>(2) Applicable to Space Objec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-MinchoL-Sun"/>
              </a:rPr>
              <a:t>(3) Responsible State for ST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-MinchoL-Sun"/>
              </a:rPr>
              <a:t>(4) How to Remove Space Debri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-MinchoL-Sun"/>
              </a:rPr>
              <a:t>(5) Regulating Suborbital Spaceflights</a:t>
            </a:r>
            <a:endParaRPr b="0" lang="en-US" sz="36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21BDB-1B40-4806-A35F-8A8508192441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217080"/>
            <a:ext cx="9396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Realizing International STM Reg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5210280" y="6004080"/>
            <a:ext cx="6825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G-MinchoL-Sun"/>
              </a:rPr>
              <a:t>NASA</a:t>
            </a:r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5" name="正方形/長方形 2"/>
          <p:cNvSpPr/>
          <p:nvPr/>
        </p:nvSpPr>
        <p:spPr>
          <a:xfrm>
            <a:off x="179280" y="1009800"/>
            <a:ext cx="936144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pace law has been maintaining the same configuration since 1960’s, despite the efforts of pursuing to maintain sustainable space activities by space law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 to promote a new legislation facing to a deadlock situation in the existing negotiation organizations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laws’ effects are limited to promote international cooperation for mutual understanding, address the problem, or suggest development of new regime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n international regime for realizing the concept of STM will resolve the current issues of congested, contested and competing situation of outer space activities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pace law should be modified aligned with the modern space activities in order to reach international regime for STM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936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Issues on Current International Spac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D17DE2-BB88-4539-B1CE-057EFCC9B2DC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8" name="タイトル 1"/>
          <p:cNvSpPr/>
          <p:nvPr/>
        </p:nvSpPr>
        <p:spPr>
          <a:xfrm>
            <a:off x="395280" y="812880"/>
            <a:ext cx="90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 Applicable in Outer Space or Airspace?</a:t>
            </a:r>
            <a:endParaRPr b="0" lang="en-US" sz="36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69" name="テキスト ボックス 2"/>
          <p:cNvSpPr/>
          <p:nvPr/>
        </p:nvSpPr>
        <p:spPr>
          <a:xfrm>
            <a:off x="163440" y="1584360"/>
            <a:ext cx="930456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pace-faring nations: “wait-and-see” approach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actical problems because of this ambiguity. But remains the fundamental problem in regulating space activities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will become crucial for suborbital spaceflight = since it flies through both air and outer space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nning active space debris removal, demarcation of air and space may affect applicable safety standards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rolling space activities, the regulation should identify whether the applicable law should be air law, space law, or both, and to what extent. 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-MinchoL-Sun"/>
              </a:rPr>
              <a:t>The time has come to go forward in terms of the developing variation of space activities.</a:t>
            </a:r>
            <a:endParaRPr b="0" lang="en-US" sz="28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mitation issue has been relativized: it is realistic to understand that outer space is a hybrid meaning of spatialist and functionalist approa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 of spatialist approach: clear differentiation between air space and outer space. Also useful to classify military activity within the regulation of one area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ist approach would allow specifying the applicable law just based on the area of its activities, whatever nature the object or activity may re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D854CF-97BB-4DB4-99BA-C46112000F6C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2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Applicable in Outer Space or Airspace?- cont.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st approach: require close observation of the activity’s function = might be problematic to recognize only from the external form of th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is impossible to gain visual images of a spacecraft during its flight in outer 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ly tracked by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roach may also have the flexibility of allowing any other category of spacecraft or space activities within space regulations such as low altitude satellites or suborbital fl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38078C-936A-47D2-8AA4-6C419E08704B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5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Applicable in Outer Space or Airspace?- cont.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000" y="129528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object”: the term of ‘space object’ includes component parts of a space object as well as its launch vehicle and parts thereof… (Liability Convention, Registration Convention, Outer Space Treaty §7 &amp; 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6 of Outer Space Treaty : stating the general responsibility of the State for space activitie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matter designated by “space object” is a dedicated description for the liability and registration systems, which are only a part of international spac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06E821-00A8-4A7A-9976-5E028E6D30C0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8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Applicable to Space Object?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M viewpoint, it is practical to disconnect the subject matter of STM from space objects and focus on “space traffic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traffic”: manageable traffic flow located outside of air traffic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 regime can exist as a parallel regime of the existing liability regime of international space law. The result of interference to a space “object” can be subject to the liability regime, interference to space “traffic” may not be subject to the liability regime unless specified to do so in the STM reg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631861-4380-4545-86F5-47B599975E48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1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Applicable to Space Object?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52000" y="934920"/>
            <a:ext cx="92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“authorization and continuing supervision” as dynamic rights and obligations, “jurisdiction and control” as static rights and oblig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isdiction retained by the State of registry (= launching States) would be questioned only in the case of relinquishment of rights over space deb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ntext of STM regime, it should be the appropriate States retaining responsibility as “authority and continuous supervis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ed to focus on the launching State, but a need to entail certain responsibilities to the “appropriate Stat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スライド番号プレースホルダー 3"/>
          <p:cNvSpPr/>
          <p:nvPr/>
        </p:nvSpPr>
        <p:spPr>
          <a:xfrm>
            <a:off x="6966000" y="590400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69CD6E-BC22-420B-8E6B-EE5DE7FF8DC7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4" name="タイトル 1"/>
          <p:cNvSpPr/>
          <p:nvPr/>
        </p:nvSpPr>
        <p:spPr>
          <a:xfrm>
            <a:off x="395280" y="287280"/>
            <a:ext cx="90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Responsible State for STM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0:04:42Z</dcterms:created>
  <dc:creator>Takeuchi Yu</dc:creator>
  <dc:description>地味な灰色の背景</dc:description>
  <dc:language>en-US</dc:language>
  <cp:lastModifiedBy>竹内亮</cp:lastModifiedBy>
  <dcterms:modified xsi:type="dcterms:W3CDTF">2014-11-02T17:18:15Z</dcterms:modified>
  <cp:revision>107</cp:revision>
  <dc:subject/>
  <dc:title>渋好み</dc:title>
</cp:coreProperties>
</file>